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273-915B-4A4C-8CCA-D4EC7C92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BB8-D51A-47CF-889A-653DEDB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F18-9A1D-4084-979A-BAE068C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E7F-98BD-4E90-B6A5-CD7D7B0B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CA6-9E09-4681-BA72-B3C0004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1A1-27FA-4A93-A0E0-A7AD372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B9B-44B7-478D-9B41-A52ED1E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33E-3A0E-4340-AA75-0C106AF4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FFE-0564-4234-9459-29C4BFC7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5C4-73F6-4207-A742-7923531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3F3-99E4-48BE-BA64-5649FBA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B57-A226-430E-8EE7-469351E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3B6-28E0-4D1A-A96E-FB1DB29461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3399"/>
                </a:solidFill>
                <a:latin typeface="Times New Roman"/>
                <a:ea typeface="隶书"/>
              </a:rPr>
              <a:t>做习惯的主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高二（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）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习惯治疗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写此卡，尽量详细，针对具体的问题来解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————月————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良学习习惯：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改进：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邀请———做我的评判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醒我要和坏习惯绝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星期后，我的表现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的学习习惯治疗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良学习习惯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不按时完成作业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上自习课的时候说：“晚上回家再做吧。”等回到家，吃完晚饭的时候，做了一会儿就想看电视，又说：“明天早上做吧！”结果总是推脱，最后到了交作业的时候，才发现自己还没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改进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把每天的作业记在记事本上，回家之后，先做作业，再看电视，让父母监督，再没有做完作业之前，不许睡觉，老师上完一课我就立即做完这一课作业，让自己的同桌监督自己完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邀请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晓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我的评判人，提醒我要和怀习惯绝交，一星期后，我的表现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094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66680"/>
            <a:ext cx="82296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100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表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小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2005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9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月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7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当自己在改进不良学习习惯的时候，要取得家人和好朋友的帮助，让他们来做你的坚强的精神后盾。在自己无法坚持的时候，跟家人和好朋友及时地沟通，大家一起想办法。当自己取得进步的时候，也反馈给他们，让自己亲近的人能看见你的进步，也可以提高你的自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408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1400" y="1519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1644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61160" y="155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7920" y="2485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9864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336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500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54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680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028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310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21640" y="22536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17280" y="1295280"/>
            <a:ext cx="533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北京有一家外资企业招工，对学历、外语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身高、相貌的要求都很高，但薪酬挺高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所以有很多高素质人才都来应聘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这一些年轻人，过五关斩六将 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到了最后一关：总经理面试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　 这些年轻人想，这很简单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只不过是走走过场罢了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准十拿九稳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1406880"/>
            <a:ext cx="685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    一见面，总经理说：“很抱歉，年轻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我有点急事，要出去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分钟，你们能不能等我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说：“没问题，您去吧，我们等您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老板走了，年轻人一个个踌躇满志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得意非凡，闲不着，围着老板的大写字台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只见上面文件一摞，信一摞，资料一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你看这一摞，我看这一摞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看完了还交换：哎哟，这个好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55343" b="0"/>
          <a:stretch/>
        </p:blipFill>
        <p:spPr>
          <a:xfrm>
            <a:off x="0" y="0"/>
            <a:ext cx="345744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17" b="0"/>
          <a:stretch/>
        </p:blipFill>
        <p:spPr>
          <a:xfrm>
            <a:off x="1403280" y="0"/>
            <a:ext cx="774072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97400" y="1494000"/>
            <a:ext cx="342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分钟后，总经理回来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说：“面试已经结束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“没有啊？我们还在等您啊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老板说：“我不在的这一段时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你们的表现就是面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很遗憾，你们没有一个人被录取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管住自己为什么管不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改掉坏习惯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学习习惯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3:22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4:48Z</dcterms:modified>
  <cp:revision>15</cp:revision>
  <dc:subject>主题班会课件(分28大类): http://shop62905894.taobao.com</dc:subject>
  <dc:title>主题班会课件(分28大类): http://shop62905894.taobao.com</dc:title>
</cp:coreProperties>
</file>